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3.jpeg" ContentType="image/jpeg"/>
  <Override PartName="/ppt/media/image21.png" ContentType="image/png"/>
  <Override PartName="/ppt/media/image4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.wmf" ContentType="image/x-wmf"/>
  <Override PartName="/ppt/media/image15.png" ContentType="image/pn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dt" idx="3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ftr" idx="3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 type="sldNum" idx="3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EE95-74DF-46F3-B411-FDCA53581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57AD-2E7E-4B1C-86A8-C702177181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1618-CEF8-4977-A0D4-F5D4BE022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3B16-FF6C-431B-9AFD-2C997DA825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B21B-D93D-4D1B-B1A3-4D2CAD43A3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D0D9C5-BE1D-42E8-837D-3EBF4455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E483B3-0E8C-4006-8BAD-5F56F3A8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7B0A44-BD32-4495-842A-D2E27A31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F49698-651B-4AFC-AB2B-E35CE796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FAA2F6-EC80-4EDC-BB99-14190CC8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DBBC28-C096-49E8-923D-2CE583DC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00DEF6-E240-4632-ACB5-374F416B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1793DC-B228-4B34-955E-8911BC2D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E80E32-955C-407D-9682-819FD7D6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304EED-81B4-4FC4-A5BA-23643DBB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89FEFE-34FB-4E49-941D-72D588D4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CEA242-E5BA-47A1-9044-659CC8B8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2C18A6-791F-4CA1-BB9E-B3412626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A1025A-4407-4577-AABF-EF07CFB5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1EBD00-19A3-4379-8110-826BE6AC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2C078A-2873-471C-8DEF-5F6C65CE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CDE08D-D160-42A7-8757-D3A4CF35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59DB9F-3CA6-4AC8-B858-AA2E7B7E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9539A3-9364-4A0D-82E1-834DE080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E00C5A-A95A-4069-9B78-6EFB855C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93FD43-6936-4D49-B639-F6E5C071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6D4678-7A57-4FB2-996B-6B33C174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2271D3-8008-443F-A547-E43A9614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E1F1F1-8E7B-426D-954D-39B9445E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247E75-7BC6-40A3-8226-3D8B96D7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E68BB3-4A4D-4C93-87B8-DB9F402F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0A1E3F-E429-45B7-A8F4-2E85FEBD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306609-84ED-4C35-9576-34AC62DD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55ACCF-E705-4E44-B8B8-57FEA12B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506C7C-4239-4B3D-B91F-23726766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E1957-8BFD-410E-A7F0-E4CB7783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B06010-506C-48C8-8523-C06E4763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0BE26E-2463-4A84-9EAB-6392F6BA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086840-FB29-4F31-A165-B3835EEC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EC1E8A-A2C2-4331-A815-5528ACFD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566DF7-80F0-4F87-8F5B-220E74F0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C6A803-7C6C-4695-A8BD-A6AB0E34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149D8C-6EE3-43E8-8808-A8628152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6A2EA0-61CE-4168-A894-1FBE2374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C1E0C0-0949-49F2-8B5F-C7D789AE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EF612A-4D22-4ABD-BC3E-1F0A3C8C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8749D-7DC6-42EF-A6ED-26C378E8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81F00D-BA03-4AB7-ABBD-431DC1BE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F9390E-CB37-4F0B-81BE-FE72FDE4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3D0118-3A34-4DDE-9D5B-8B299118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F0B52A-3575-4091-B733-4E55747F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DFBD55-7A51-4E32-8D8D-90004CC0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87E84-E912-4323-8C08-850B1B95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844E6-536A-4150-A80D-36994B73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97ACA-580F-4FE8-9B61-D70F816B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17DE1-4305-4DB3-9776-4D55AC53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100F5-8632-420C-9928-1166A9E3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8882A-E94C-4143-9B17-F6A5BF0B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F8D20-C283-44D0-8505-6C172488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2DEF8-C7E5-4760-8559-7222CFDF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7A1CE-535E-489D-A650-B9985AFD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F439C-CC62-4CB4-A36D-054FF486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87E8E7-0526-4A81-B486-FFCD7FA50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E7515F-4E2D-49E0-9249-9AE1D035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75AAFF-E88A-4379-9AAF-48959B8D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204FB9-D849-4F26-AB55-5E643524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7146F4-E13A-43F2-8695-5EA47D99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92C33-D9DF-4FF1-B9E3-C283DE3F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E09CC9-4A94-488E-911C-41753497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9FB0EE-195A-452D-A985-E495376F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0CB26-BA4D-42F2-918C-C39CF333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8D0B0-9103-49E9-A4E7-36132174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C87FD-21E2-4B02-AD32-999E0BA8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17EA72-5B55-4BFF-A08C-EB2B1C23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E1B379-94A8-4E13-8426-084C13A5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395CEC-73F8-40D7-8CD8-BD517973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992403-9A49-4773-BC6A-00CF48A6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BD0D02-FEA6-40A3-ABAB-2115C81A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7F63BB-6533-4F4F-A173-0F84BA8A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8FFE24-8CC9-4993-9C2F-33902E84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D6615B-2750-442F-BEBE-E61E87F0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456677-6456-4B65-84C1-E2BF3687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E77A4A-F0D7-4E91-B8A5-556433ED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9A7B07-7DB6-4F7E-81F1-CA525D06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260985-68EF-4426-8361-60D1B89C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171608-90D4-4849-988B-CC430079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E4D70B-826A-4BA9-B893-D79377BFE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9744E2-3229-4D1B-8DF0-DE0A49E1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394521-AAA7-4BE0-AFC7-F3242B53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DCB091-CE21-47FC-B8C5-D8CB84D9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E1EBB6-C446-4E51-A320-5774BB98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CF6FBC-44FE-410D-8AEF-793A098C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5FF090-7E1E-4F2C-B417-2638F985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D52C17-042F-449A-A646-FD519F77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1CFE66-7C3C-42A1-AC49-0BC4DB27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707412-5363-4D43-AC70-67792948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62C4E4-4A36-4A6A-A7A5-198A31CF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554B07-962C-4A56-8952-247DAE66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A7F9E8-5A4A-4B89-9D95-9CCC6F38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24252B-6C2D-4062-95E4-6D4D1FEF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BF8666-4CF5-4272-B62F-B9DC3F92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1EA5C2-C2FF-4401-8DEB-9C96A8C2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888C26-5198-405C-9034-66D284C1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822823-BED2-4DA1-8E31-904D81C0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8969A2-9E70-4C49-80F0-47FB402D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197312-E039-47D5-9723-4614A2FC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63DD2A-703C-4B6A-A1DB-119CEC7E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B006EA-0FCD-4798-BD8C-D77B1CA9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E16D0C-1AF8-4FAD-9F7B-692B5691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38B001-11FF-42EB-89A2-4E3D2F29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005091-E60D-4239-BB1B-0F036DEBD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6F06F5-CCB7-451E-A015-1C174BFD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7492A5-134B-477A-9BE6-192E01D0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684192-CEED-42ED-B98C-83FAC9EC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11C62A-71EC-4243-BCBF-D7B3456A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4BE601-E4DF-4330-BB0C-7186BFAC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D70603-CFE3-46DC-87B4-1CFC13C6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52DB6E-368C-4D95-94C6-6DC630B2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312246-B109-4B7F-94CA-33CFE1AB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DC7CFE-4612-4A87-9ACD-E289647F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ABBF0A-559C-4AC3-9220-309434BB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B4DD4F-30C8-4E28-9432-2DAA624E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6C4DF7-D082-4899-8EAA-3CC64A1A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13F960-8D62-4C1E-ADBD-3114EB44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A2188C-8185-4D4F-9B01-08364F3F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B2E16F-3A51-47C1-ABBA-300D4DA9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C61DE1-5C03-45FE-97E6-E6BEFA35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2568A9-4854-4BF8-82EC-101D3492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043095-4E30-471B-9E0A-7855AB5B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BAC7FF-DE6B-455D-8DFF-9267CFC5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6F3A97-F9A3-489C-AD97-8FB2AE41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29A96E-7D12-4E8F-9B73-094F1612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2DF5FD-4FCD-4E97-9F1E-9A03B756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E01D5B-3FB2-4136-86F3-08F90A19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8B9E4A-B3A1-4706-8404-B9B266D5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2D9588-C80A-4CAE-8107-6E60D552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011395-146C-46DF-A80B-0166B842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C814-84F4-4FC8-9AA1-F202A80F57C4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7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C84D-6BD1-4F79-A77B-EA61129AC26B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8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7BE1-13F3-422F-9978-A2EAEF0CC5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29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0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3BB5-C542-4CA7-A72A-16E4DBF81EEF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2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C49A-11AA-4DA3-8B3E-9F4E9B3687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B373-C1E9-4431-BBED-BE2F5D043239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5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67E1-4A3D-4645-804E-ED96EAA9B5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3E7F-57AF-43FF-B7F2-511D3BA8AD05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Contract Review Se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FF9E-FF44-4587-A06E-296843974E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6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BE30-D457-41C2-86F6-3BA2C1BB52BE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7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Contract Review Se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8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9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D6CA-215B-401E-A26C-A20CD112D15F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0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1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F2A5-E3EB-4D11-8F77-07EC81F9FE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36A5-EC81-4559-9871-BE7348EB4268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3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4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3A6F-58F6-49E2-964C-5EC2E89072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5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3896-DC86-4B67-80CB-2A8E02219BF5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6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7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60A4-93B0-4F5F-911B-4079233BF3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8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86C4-9E91-4816-9F8C-8BA4A26B4404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9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0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A987-49AF-43BB-B6F7-C5143F5D66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1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510D-19F7-4839-A9B9-FFEAA99B4AAD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3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D1E1-FA7F-46AA-B2B3-7BAF5B9C16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1A0B-908A-4FE1-8FCD-9BB3E7CEF3D5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6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3CB4-5ACB-49E7-AF38-E4D518C3B1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905120"/>
            <a:ext cx="754380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23232"/>
                </a:solidFill>
                <a:latin typeface="Cambria"/>
              </a:rPr>
              <a:t>Year 1 Overview</a:t>
            </a:r>
            <a:endParaRPr b="0" lang="en-US" sz="48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7952"/>
                </a:solidFill>
                <a:latin typeface="Calibri"/>
              </a:rPr>
              <a:t>I. Hoeschle-Zeledon</a:t>
            </a:r>
            <a:br>
              <a:rPr sz="2400"/>
            </a:br>
            <a:r>
              <a:rPr b="0" lang="en-US" sz="2400" spc="-1" strike="noStrike">
                <a:solidFill>
                  <a:srgbClr val="887952"/>
                </a:solidFill>
                <a:latin typeface="Calibri"/>
              </a:rPr>
              <a:t>Africa RISING East/Southern Africa Coo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ubtitle 2"/>
          <p:cNvSpPr/>
          <p:nvPr/>
        </p:nvSpPr>
        <p:spPr>
          <a:xfrm>
            <a:off x="3048120" y="1143000"/>
            <a:ext cx="531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search Review &amp; Planning Meet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frica RISING – East &amp; Southern Africa Proje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-5 October 2012, Arusha, Tanz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14475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Communication Strategy and Tools </a:t>
            </a:r>
            <a:r>
              <a:rPr b="0" lang="en-GB" sz="2000" spc="-1" strike="noStrike">
                <a:solidFill>
                  <a:srgbClr val="bfbfbf"/>
                </a:solidFill>
                <a:latin typeface="Cambria"/>
              </a:rPr>
              <a:t>(ILRI leadership)</a:t>
            </a:r>
            <a:br>
              <a:rPr sz="2000"/>
            </a:b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	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wiki , website, repositories for docs, images, presentations </a:t>
            </a:r>
            <a:br>
              <a:rPr sz="1800"/>
            </a:br>
            <a:br>
              <a:rPr sz="1800"/>
            </a:b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M&amp;E Plan </a:t>
            </a:r>
            <a:r>
              <a:rPr b="0" lang="en-GB" sz="2000" spc="-1" strike="noStrike">
                <a:solidFill>
                  <a:srgbClr val="323232"/>
                </a:solidFill>
                <a:latin typeface="Cambria"/>
              </a:rPr>
              <a:t>(IFPRI leadership)</a:t>
            </a:r>
            <a:br>
              <a:rPr sz="1800"/>
            </a:b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Program Logframe</a:t>
            </a:r>
            <a:br>
              <a:rPr sz="2800"/>
            </a:b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Program Document</a:t>
            </a:r>
            <a:r>
              <a:rPr b="0" lang="en-GB" sz="2400" spc="-1" strike="noStrike">
                <a:solidFill>
                  <a:srgbClr val="323232"/>
                </a:solidFill>
                <a:latin typeface="Cambria"/>
              </a:rPr>
              <a:t>:  assembly of  all strategic documents</a:t>
            </a:r>
            <a:endParaRPr b="0" lang="en-US" sz="24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96" name="TextBox 3"/>
          <p:cNvSpPr/>
          <p:nvPr/>
        </p:nvSpPr>
        <p:spPr>
          <a:xfrm>
            <a:off x="1066680" y="3657600"/>
            <a:ext cx="469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gram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urpose, objectives , outcom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uiding principles and conceptual framewor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search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og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&amp;E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mmunication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nagement structure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520" y="15238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3600" spc="-1" strike="noStrike">
                <a:solidFill>
                  <a:srgbClr val="323232"/>
                </a:solidFill>
                <a:latin typeface="Cambria"/>
              </a:rPr>
              <a:t>Program Management Structure</a:t>
            </a:r>
            <a:br>
              <a:rPr sz="3600"/>
            </a:br>
            <a:endParaRPr b="0" lang="en-US" sz="36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553716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828800" y="121896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Project Coordination Committee (PCC)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0" name="TextBox 3"/>
          <p:cNvSpPr/>
          <p:nvPr/>
        </p:nvSpPr>
        <p:spPr>
          <a:xfrm>
            <a:off x="2057400" y="3200400"/>
            <a:ext cx="5867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533520" y="937080"/>
            <a:ext cx="7467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vides advice and coordination on Project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vides science guidance to Project implemen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Guides Project planning and all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dvises on annual Project workplan and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versees coordination between Project components a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iaises with IST to oversee M&amp;E; cc PCT on all report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Keeps PCT informed of activities via the Project Coordin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views and makes suggestions to Project Coordinator 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miannual technical progress reports to USA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lans yearly stakeholder meetings with support from Progra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ommunications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ecisions made by consens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eets annually in personal and virtually as called by the Cha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590560" y="990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ESA PCC Composition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3" name="Rectangle 1"/>
          <p:cNvSpPr/>
          <p:nvPr/>
        </p:nvSpPr>
        <p:spPr>
          <a:xfrm>
            <a:off x="533520" y="1994760"/>
            <a:ext cx="761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hair: IITA Reg. Dir. for 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ject Coordinator, serves as Secretary (II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ject Chief Scientist (II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search partners: CGIAR (1, AfricaRice), yearly rot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sub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onal research organizations (1, ASARECA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NARS (1, COSTECH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and others as designat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M&amp;E Lead (IFPR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ommunications Lead (II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AID Activity Mana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14600" y="12189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Science Advisory Group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609480" y="2743200"/>
            <a:ext cx="457200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Proposed membe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Maggie Gill (DFI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onsolas"/>
              </a:rPr>
              <a:t>Ken Giller (WU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onsolas"/>
              </a:rPr>
              <a:t>John Dixon (ACI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Bruno Gerard (CIMMY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Dave Harris (ICRISA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Bernard van Lauwe (II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Reps. from CRS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USAID gender specia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R chief scientists (3, ILRI/IIT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USAID Activity Manager (J. Glov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37920" y="12189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USAID visit, June 17-22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7" name="TextBox 3"/>
          <p:cNvSpPr/>
          <p:nvPr/>
        </p:nvSpPr>
        <p:spPr>
          <a:xfrm>
            <a:off x="533520" y="2362320"/>
            <a:ext cx="7086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J. Glover and E. Witte from DC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eet with project staff in Tanz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eet with USAID country mission partners, e.g. NAFAKA, SU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e ongo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et better idea of future action sit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scuss alignment with MAFSC , USAID mission, other 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Picture 4" descr="C:\Users\IZeledon\Pictures\USAID visit Tanzania June 2012\DSC03480.jpg"/>
          <p:cNvPicPr/>
          <p:nvPr/>
        </p:nvPicPr>
        <p:blipFill>
          <a:blip r:embed="rId1"/>
          <a:stretch/>
        </p:blipFill>
        <p:spPr>
          <a:xfrm>
            <a:off x="4495680" y="4952880"/>
            <a:ext cx="2210040" cy="17956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C:\Users\IZeledon\Pictures\USAID visit Tanzania June 2012\DSC03486.jpg"/>
          <p:cNvPicPr/>
          <p:nvPr/>
        </p:nvPicPr>
        <p:blipFill>
          <a:blip r:embed="rId2"/>
          <a:stretch/>
        </p:blipFill>
        <p:spPr>
          <a:xfrm>
            <a:off x="1600200" y="4876920"/>
            <a:ext cx="246852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895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Thank you!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611" name="Picture 3" descr=""/>
          <p:cNvPicPr/>
          <p:nvPr/>
        </p:nvPicPr>
        <p:blipFill>
          <a:blip r:embed="rId1"/>
          <a:stretch/>
        </p:blipFill>
        <p:spPr>
          <a:xfrm>
            <a:off x="228600" y="6362640"/>
            <a:ext cx="685800" cy="3430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" descr=""/>
          <p:cNvPicPr/>
          <p:nvPr/>
        </p:nvPicPr>
        <p:blipFill>
          <a:blip r:embed="rId2"/>
          <a:stretch/>
        </p:blipFill>
        <p:spPr>
          <a:xfrm>
            <a:off x="990720" y="6324480"/>
            <a:ext cx="369720" cy="3794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" descr="C:\Users\Corporate Comms\Downloads\icrisat_logo.jpg"/>
          <p:cNvPicPr/>
          <p:nvPr/>
        </p:nvPicPr>
        <p:blipFill>
          <a:blip r:embed="rId3"/>
          <a:stretch/>
        </p:blipFill>
        <p:spPr>
          <a:xfrm>
            <a:off x="1447920" y="6324480"/>
            <a:ext cx="1143000" cy="3621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" descr="C:\Users\Corporate Comms\Downloads\AfricaRice logo.png"/>
          <p:cNvPicPr/>
          <p:nvPr/>
        </p:nvPicPr>
        <p:blipFill>
          <a:blip r:embed="rId4"/>
          <a:srcRect l="0" t="0" r="73495" b="19117"/>
          <a:stretch/>
        </p:blipFill>
        <p:spPr>
          <a:xfrm>
            <a:off x="3505320" y="6248520"/>
            <a:ext cx="530280" cy="5014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" descr="C:\Users\Corporate Comms\Downloads\IFPRI logo (green).jpg"/>
          <p:cNvPicPr/>
          <p:nvPr/>
        </p:nvPicPr>
        <p:blipFill>
          <a:blip r:embed="rId5"/>
          <a:stretch/>
        </p:blipFill>
        <p:spPr>
          <a:xfrm>
            <a:off x="4114800" y="6172200"/>
            <a:ext cx="322200" cy="5065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9" descr="C:\Users\Corporate Comms\Downloads\AVRDC logo.jpg"/>
          <p:cNvPicPr/>
          <p:nvPr/>
        </p:nvPicPr>
        <p:blipFill>
          <a:blip r:embed="rId6"/>
          <a:stretch/>
        </p:blipFill>
        <p:spPr>
          <a:xfrm>
            <a:off x="6553080" y="6324480"/>
            <a:ext cx="1600200" cy="34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7" name="Object 6"/>
          <p:cNvGraphicFramePr/>
          <p:nvPr/>
        </p:nvGraphicFramePr>
        <p:xfrm>
          <a:off x="2666880" y="6095880"/>
          <a:ext cx="762120" cy="65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6095880"/>
                    <a:ext cx="7621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9" name="Picture 3" descr="C:\Users\izeledon\Documents\LOGOS\ciat-log.gif"/>
          <p:cNvPicPr/>
          <p:nvPr/>
        </p:nvPicPr>
        <p:blipFill>
          <a:blip r:embed="rId9"/>
          <a:stretch/>
        </p:blipFill>
        <p:spPr>
          <a:xfrm>
            <a:off x="5486400" y="6324480"/>
            <a:ext cx="990720" cy="300240"/>
          </a:xfrm>
          <a:prstGeom prst="rect">
            <a:avLst/>
          </a:prstGeom>
          <a:ln w="0">
            <a:noFill/>
          </a:ln>
        </p:spPr>
      </p:pic>
      <p:pic>
        <p:nvPicPr>
          <p:cNvPr id="620" name="il_fi" descr="http://www.goes.msu.edu/sumernet/logo/ICRAF%20logo.jpg"/>
          <p:cNvPicPr/>
          <p:nvPr/>
        </p:nvPicPr>
        <p:blipFill>
          <a:blip r:embed="rId10"/>
          <a:stretch/>
        </p:blipFill>
        <p:spPr>
          <a:xfrm>
            <a:off x="4495680" y="6172200"/>
            <a:ext cx="8431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62012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    </a:t>
            </a: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The Start</a:t>
            </a:r>
            <a:br>
              <a:rPr sz="3200"/>
            </a:br>
            <a:br>
              <a:rPr sz="32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Oct. 2011: Brain storming meeting in preparation of inception workshop, agreement  on countries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Nov./Dec. 2011: Development of Concept Notes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Feb. 2012: Inception workshop DSM, </a:t>
            </a: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decision on Program approach and name Africa RISING, </a:t>
            </a: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call for jumpstart project proposals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April 2012: Approval of  10 jumpstarts, contracts, fund disbursemen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May 2012: Office set-up and staff recruitment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Continuously:  Strategic  Program/Project documents developed, teams established</a:t>
            </a:r>
            <a:br>
              <a:rPr sz="2400"/>
            </a:br>
            <a:br>
              <a:rPr sz="2400"/>
            </a:br>
            <a:br>
              <a:rPr sz="2800"/>
            </a:br>
            <a:endParaRPr b="0" lang="en-US" sz="20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5638680" y="3048120"/>
            <a:ext cx="1295640" cy="12128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4" descr=""/>
          <p:cNvPicPr/>
          <p:nvPr/>
        </p:nvPicPr>
        <p:blipFill>
          <a:blip r:embed="rId2"/>
          <a:stretch/>
        </p:blipFill>
        <p:spPr>
          <a:xfrm>
            <a:off x="7010280" y="3505320"/>
            <a:ext cx="12956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1278000"/>
            <a:ext cx="7620120" cy="55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Approved jumpstart projects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533520" y="1905120"/>
          <a:ext cx="5181480" cy="4287600"/>
        </p:xfrm>
        <a:graphic>
          <a:graphicData uri="http://schemas.openxmlformats.org/drawingml/2006/table">
            <a:tbl>
              <a:tblPr/>
              <a:tblGrid>
                <a:gridCol w="1066680"/>
                <a:gridCol w="3200400"/>
                <a:gridCol w="914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ud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 Legume Value Chain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,4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M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Post-harvest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RA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rgreen Agri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logue of Crop, Soil, Water Management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,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cotoxins in Maize and Cassa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,4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d Systems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RI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d Multi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M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nsification of Farming System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,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rica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d Manag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D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ing Vegetable Value Ch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,9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578" name="TextBox 3"/>
          <p:cNvSpPr/>
          <p:nvPr/>
        </p:nvSpPr>
        <p:spPr>
          <a:xfrm>
            <a:off x="533520" y="6211800"/>
            <a:ext cx="746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Grant ($120k) to MSU for first 6 months of research on Agroecological Intensification in MAL and TZ through Action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Lessons learnt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0" name="TextBox 2"/>
          <p:cNvSpPr/>
          <p:nvPr/>
        </p:nvSpPr>
        <p:spPr>
          <a:xfrm>
            <a:off x="609480" y="21337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ntry point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- SI to build on existing policies, techn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aps identified to fill (technological, capacity, policies, institutions, existing data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pportuniti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articipatory approaches towards integration of disciplines, evaluation of bes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bets, land use plan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ed systems improv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ivate sector involv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artnerships and eng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teraction among research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ternal/external commun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licy maker/private sector engag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Logistics and organ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tractual issues, inadequate infra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971800" y="11426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Research framework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2" name="TextBox 2"/>
          <p:cNvSpPr/>
          <p:nvPr/>
        </p:nvSpPr>
        <p:spPr>
          <a:xfrm>
            <a:off x="397080" y="2514600"/>
            <a:ext cx="8025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eneric to be applicable across all three Africa RISING regio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lexible to allow site specific adaptat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st a set of hypotheses linked to research outputs an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associated development outcom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743200" y="837720"/>
            <a:ext cx="41148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Selection of Action Sites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4" name="TextBox 3"/>
          <p:cNvSpPr/>
          <p:nvPr/>
        </p:nvSpPr>
        <p:spPr>
          <a:xfrm>
            <a:off x="533520" y="1752480"/>
            <a:ext cx="769608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-location with USAID country mission investments/other 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presentative regarding drivers of intensification to allow for scaling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up to areas with similar conditions: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pulation density, market access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agro-ecological cond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vide for rigorous M&amp;E to determine impact of 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PRI: stratification/characterization of  target wards and vill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Z: Kiteto, Kongwa, Kilombero, Babati distri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MAL: Ntcheu, Dedza district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ZAM: Eastern Provi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1"/>
          <a:stretch/>
        </p:blipFill>
        <p:spPr>
          <a:xfrm>
            <a:off x="6400800" y="3048120"/>
            <a:ext cx="1935000" cy="1152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" descr=""/>
          <p:cNvPicPr/>
          <p:nvPr/>
        </p:nvPicPr>
        <p:blipFill>
          <a:blip r:embed="rId2"/>
          <a:stretch/>
        </p:blipFill>
        <p:spPr>
          <a:xfrm>
            <a:off x="6553080" y="4952880"/>
            <a:ext cx="18288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14475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Communication Strategy and Tools </a:t>
            </a:r>
            <a:r>
              <a:rPr b="0" lang="en-GB" sz="2000" spc="-1" strike="noStrike">
                <a:solidFill>
                  <a:srgbClr val="323232"/>
                </a:solidFill>
                <a:latin typeface="Cambria"/>
              </a:rPr>
              <a:t>(ILRI leadership)</a:t>
            </a:r>
            <a:br>
              <a:rPr sz="2000"/>
            </a:b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	</a:t>
            </a:r>
            <a:r>
              <a:rPr b="0" lang="en-GB" sz="1800" spc="-1" strike="noStrike">
                <a:solidFill>
                  <a:srgbClr val="323232"/>
                </a:solidFill>
                <a:latin typeface="Calibri"/>
              </a:rPr>
              <a:t>wiki , website, repositories for docs, images, presentations </a:t>
            </a:r>
            <a:br>
              <a:rPr sz="1800"/>
            </a:br>
            <a:br>
              <a:rPr sz="1800"/>
            </a:b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M&amp;E Plan </a:t>
            </a:r>
            <a:r>
              <a:rPr b="0" lang="en-GB" sz="2000" spc="-1" strike="noStrike">
                <a:solidFill>
                  <a:srgbClr val="bfbfbf"/>
                </a:solidFill>
                <a:latin typeface="Cambria"/>
              </a:rPr>
              <a:t>(IFPRI leadership)</a:t>
            </a:r>
            <a:br>
              <a:rPr sz="1800"/>
            </a:b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Program Logframe</a:t>
            </a:r>
            <a:br>
              <a:rPr sz="2800"/>
            </a:b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Program Document</a:t>
            </a:r>
            <a:r>
              <a:rPr b="0" lang="en-GB" sz="2400" spc="-1" strike="noStrike">
                <a:solidFill>
                  <a:srgbClr val="bfbfbf"/>
                </a:solidFill>
                <a:latin typeface="Cambria"/>
              </a:rPr>
              <a:t>:  assembly of  all strategic documents</a:t>
            </a:r>
            <a:endParaRPr b="0" lang="en-US" sz="24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8" name="TextBox 3"/>
          <p:cNvSpPr/>
          <p:nvPr/>
        </p:nvSpPr>
        <p:spPr>
          <a:xfrm>
            <a:off x="1066680" y="3657600"/>
            <a:ext cx="469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program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purpose, objectives , outcom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guiding principles and conceptual framewor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research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log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M&amp;E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communication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management structure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"/>
          <p:cNvPicPr/>
          <p:nvPr/>
        </p:nvPicPr>
        <p:blipFill>
          <a:blip r:embed="rId1"/>
          <a:stretch/>
        </p:blipFill>
        <p:spPr>
          <a:xfrm>
            <a:off x="-2057400" y="214956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971800" y="11426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Our website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91" name="TextBox 2"/>
          <p:cNvSpPr/>
          <p:nvPr/>
        </p:nvSpPr>
        <p:spPr>
          <a:xfrm>
            <a:off x="1078920" y="411480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alibri"/>
              </a:rPr>
              <a:t>Where to share news, updates and announc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17640" y="1371600"/>
            <a:ext cx="9735840" cy="547380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0920" y="214920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Our wiki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94" name="TextBox 2"/>
          <p:cNvSpPr/>
          <p:nvPr/>
        </p:nvSpPr>
        <p:spPr>
          <a:xfrm>
            <a:off x="3733920" y="55627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alibri"/>
              </a:rPr>
              <a:t>Collaboration space to support planning, sharing early documents, reporting and organizing ev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3:43:14Z</dcterms:created>
  <dc:creator>JTOliver</dc:creator>
  <dc:description/>
  <dc:language>en-US</dc:language>
  <cp:lastModifiedBy>LeBorgne, Ewen (ILRI)</cp:lastModifiedBy>
  <cp:lastPrinted>2011-10-06T11:45:23Z</cp:lastPrinted>
  <dcterms:modified xsi:type="dcterms:W3CDTF">2012-10-05T07:56:03Z</dcterms:modified>
  <cp:revision>829</cp:revision>
  <dc:subject/>
  <dc:title>PowerPoint Presentation</dc:title>
</cp:coreProperties>
</file>